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3" end="3"/>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DE81B-38A4-470E-8F0D-B84C7E070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5DE97-F5EE-47CA-A706-937EDBCE8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730B3-221F-41B0-8233-8B18845A8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F60D7-4F23-4675-B67C-24260873E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AE033-51B2-4CC0-8257-F644072403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E1CA9-28C0-4EBF-8700-088B78CDD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E9171-7579-440B-A169-2CCFC40BC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67B3A-0F8A-4455-BDE4-51B6F8519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03AB2-DFB7-4222-986D-07F4F3C3F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F0A0C-7CD7-4685-90FD-9C414C9D0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3A2D1-D196-46B3-8428-06B8B5473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755B8-821E-4506-AB02-E70CE2870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E6962-AF89-4DBB-A443-FA7721203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B6D7B-8A99-4296-A035-75C613042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716EF-204B-4ECA-99FD-965A62246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A5313-8345-4C80-911E-1E660770A2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19FC3E-1105-4A33-A185-322BE24EA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F4978A-C34F-469E-BE27-F35B937D25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65CCC3-0F6F-47BD-BB28-4FDF68BE9F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10DB10-0F4C-4EA7-962C-B6C6A41AEE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5A7A56-A345-42B1-B0FC-8FE7F8A4C7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9A6269-CF24-47CE-A989-C9F90B458D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0A606-25C8-469C-BBC2-A5FF853E4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273806-1E8A-447C-8176-B7D8501C9D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99697-8B06-428E-8E4D-0107B3164E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8360C5-2594-4B77-B445-25FFF6D609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D3D7A0-0788-4736-9932-6B9070EC37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3667BE-6B2A-4A1E-9D97-B81C796360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55373B-AFBF-40FC-9810-D27E3D2FAB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5E133F-5A3A-4748-BC8A-14CA0BD295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618797-C2C4-4441-8B2B-70FB7BFE55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26A542-F20C-46AA-B478-9C3BD642E4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D91B15-C4CB-40F9-9E6E-D1207CA92B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114F1-E6B6-4F8F-9272-BA3479EBA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A00AF7-E3A2-429B-85D2-0774F1B9ED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400F0-315D-4847-B904-8D08300802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E7AD04-F968-4F69-A102-416515F696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4C1176-622F-47B1-B723-CF17963B34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45C4D-9B8E-421B-99EC-31DC2F62D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A8051B-8CE1-4170-9D91-837EE7333A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6F0633-F73D-4E05-8E85-7C64764927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6EDD89-FAF3-4415-8DB6-B6020D41B0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944223-F31A-4469-8E74-8F701935F8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8F7BB-5250-4EDF-9220-B9E76DFAA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ADC13-5C45-4274-95F4-E292099D4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3CE9C-FB0A-40C6-90A1-8B4AEED35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841F7-6563-487D-879E-3CD951DD6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2CFA8-12FA-40E7-A850-A0A923A95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5C8A-0E48-4F86-97D1-F21EE482F4C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F890-7FE2-4D03-A34F-663F3D6D010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59" name=""/>
          <p:cNvGrpSpPr/>
          <p:nvPr/>
        </p:nvGrpSpPr>
        <p:grpSpPr>
          <a:xfrm>
            <a:off x="0" y="0"/>
            <a:ext cx="9140760" cy="6851520"/>
            <a:chOff x="0" y="0"/>
            <a:chExt cx="9140760" cy="6851520"/>
          </a:xfrm>
        </p:grpSpPr>
        <p:sp>
          <p:nvSpPr>
            <p:cNvPr id="160"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72" name=""/>
            <p:cNvGrpSpPr/>
            <p:nvPr/>
          </p:nvGrpSpPr>
          <p:grpSpPr>
            <a:xfrm>
              <a:off x="304920" y="3625920"/>
              <a:ext cx="1990440" cy="1465200"/>
              <a:chOff x="304920" y="3625920"/>
              <a:chExt cx="1990440" cy="1465200"/>
            </a:xfrm>
          </p:grpSpPr>
          <p:sp>
            <p:nvSpPr>
              <p:cNvPr id="173"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4"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3"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4"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8"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89"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91"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3"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0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20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20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25C0-1562-47F0-8364-DF9897B2DB8E}"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239" name=""/>
          <p:cNvGrpSpPr/>
          <p:nvPr/>
        </p:nvGrpSpPr>
        <p:grpSpPr>
          <a:xfrm>
            <a:off x="0" y="0"/>
            <a:ext cx="9140760" cy="6851520"/>
            <a:chOff x="0" y="0"/>
            <a:chExt cx="9140760" cy="6851520"/>
          </a:xfrm>
        </p:grpSpPr>
        <p:sp>
          <p:nvSpPr>
            <p:cNvPr id="240"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252" name=""/>
            <p:cNvGrpSpPr/>
            <p:nvPr/>
          </p:nvGrpSpPr>
          <p:grpSpPr>
            <a:xfrm>
              <a:off x="304920" y="3625920"/>
              <a:ext cx="1990440" cy="1465200"/>
              <a:chOff x="304920" y="3625920"/>
              <a:chExt cx="1990440" cy="1465200"/>
            </a:xfrm>
          </p:grpSpPr>
          <p:sp>
            <p:nvSpPr>
              <p:cNvPr id="253"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4"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3"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4"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68"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9"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1"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7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79"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280"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281"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CA0B-697C-4E3D-AB6C-3150491234FB}"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FRUMOSUL</a:t>
            </a:r>
            <a:endParaRPr b="0" lang="en-US" sz="1400" spc="-1" strike="noStrike">
              <a:solidFill>
                <a:srgbClr val="ffff99"/>
              </a:solidFill>
              <a:latin typeface="Arial"/>
            </a:endParaRPr>
          </a:p>
        </p:txBody>
      </p:sp>
      <p:sp>
        <p:nvSpPr>
          <p:cNvPr id="319" name="PlaceHolder 2"/>
          <p:cNvSpPr>
            <a:spLocks noGrp="1"/>
          </p:cNvSpPr>
          <p:nvPr>
            <p:ph type="subTitle"/>
          </p:nvPr>
        </p:nvSpPr>
        <p:spPr>
          <a:xfrm>
            <a:off x="1371600" y="388908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Estetică, clasa a XII-a,</a:t>
            </a:r>
            <a:r>
              <a:rPr b="0" lang="ro-RO" sz="1000" spc="-1" strike="noStrike">
                <a:solidFill>
                  <a:srgbClr val="ffffff"/>
                </a:solidFill>
                <a:latin typeface="Arial"/>
              </a:rPr>
              <a:t> Adrian Iorgulescu, Doina Pungă, Gheorghe Stroia)</a:t>
            </a:r>
            <a:endParaRPr b="0" lang="en-US" sz="1000" spc="-1" strike="noStrike">
              <a:solidFill>
                <a:srgbClr val="ffffff"/>
              </a:solidFill>
              <a:latin typeface="Verdana"/>
            </a:endParaRPr>
          </a:p>
        </p:txBody>
      </p:sp>
      <p:sp>
        <p:nvSpPr>
          <p:cNvPr id="320"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
        <p:nvSpPr>
          <p:cNvPr id="321"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siunea iunie - iulie</a:t>
            </a:r>
            <a:endParaRPr b="0" lang="en-US" sz="1000" spc="-1" strike="noStrike">
              <a:solidFill>
                <a:srgbClr val="ffffff"/>
              </a:solidFill>
              <a:latin typeface="Arial"/>
            </a:endParaRPr>
          </a:p>
        </p:txBody>
      </p:sp>
      <p:sp>
        <p:nvSpPr>
          <p:cNvPr id="322" name=""/>
          <p:cNvSpPr txBox="1"/>
          <p:nvPr/>
        </p:nvSpPr>
        <p:spPr>
          <a:xfrm>
            <a:off x="2690640" y="3143160"/>
            <a:ext cx="3762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siunea iunie-iuli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3"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ffffff"/>
              </a:solidFill>
              <a:latin typeface="Verdana"/>
            </a:endParaRPr>
          </a:p>
        </p:txBody>
      </p:sp>
      <p:sp>
        <p:nvSpPr>
          <p:cNvPr id="324"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25" name="Picture 8" descr=""/>
          <p:cNvPicPr/>
          <p:nvPr/>
        </p:nvPicPr>
        <p:blipFill>
          <a:blip r:embed="rId1"/>
          <a:stretch/>
        </p:blipFill>
        <p:spPr>
          <a:xfrm>
            <a:off x="5292720" y="1773360"/>
            <a:ext cx="3333600" cy="3333600"/>
          </a:xfrm>
          <a:prstGeom prst="rect">
            <a:avLst/>
          </a:prstGeom>
          <a:ln w="0">
            <a:noFill/>
          </a:ln>
        </p:spPr>
      </p:pic>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6"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rile de existenţă ale frumosului. […]</a:t>
            </a:r>
            <a:endParaRPr b="0" lang="en-US" sz="1200" spc="-1" strike="noStrike">
              <a:solidFill>
                <a:srgbClr val="ffffff"/>
              </a:solidFill>
              <a:latin typeface="Verdana"/>
            </a:endParaRPr>
          </a:p>
          <a:p>
            <a:pPr marL="609480" indent="-609480" algn="just">
              <a:lnSpc>
                <a:spcPct val="100000"/>
              </a:lnSpc>
              <a:spcBef>
                <a:spcPts val="3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osul natural, asigurat de existenţa elementelor primordiale: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canic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zic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mic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logice. […]</a:t>
            </a:r>
            <a:endParaRPr b="0" lang="en-US" sz="1200" spc="-1" strike="noStrike">
              <a:solidFill>
                <a:srgbClr val="ffffff"/>
              </a:solidFill>
              <a:latin typeface="Verdana"/>
            </a:endParaRPr>
          </a:p>
          <a:p>
            <a:pPr marL="609480" indent="-609480" algn="just">
              <a:lnSpc>
                <a:spcPct val="100000"/>
              </a:lnSpc>
              <a:spcBef>
                <a:spcPts val="3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osul uman, constituit din:</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corpului omenesc, alcătuită în principal din elemente naturale, native, dar şi dintr-o îndelungată şlefuire civilizatoar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sufletească, rezultat aproape integral al eforturilor de înnobilare umană;</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etică a vastelor relaţii dintre oameni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ambientală a locului şi rezultatele muncii omeneşti. […]</a:t>
            </a:r>
            <a:endParaRPr b="0" lang="en-US" sz="1200" spc="-1" strike="noStrike">
              <a:solidFill>
                <a:srgbClr val="ffffff"/>
              </a:solidFill>
              <a:latin typeface="Verdana"/>
            </a:endParaRPr>
          </a:p>
          <a:p>
            <a:pPr marL="609480" indent="-609480" algn="just">
              <a:lnSpc>
                <a:spcPct val="100000"/>
              </a:lnSpc>
              <a:spcBef>
                <a:spcPts val="3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osul artistic. Existenţa sa este asigurată […] d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ourile reflectării frumuseţii din realitate;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ăţile demiurgice ale omului de artă care, pornind de la lumea reală, făureşte o realitate nouă.[…]</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14</cp:lastModifiedBy>
  <dcterms:modified xsi:type="dcterms:W3CDTF">2012-06-18T10:59:46Z</dcterms:modified>
  <cp:revision>39</cp:revision>
  <dc:subject/>
  <dc:title>SALARIUL</dc:title>
</cp:coreProperties>
</file>